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.xml.rels" ContentType="application/vnd.openxmlformats-package.relationships+xml"/>
  <Override PartName="/ppt/notesSlides/notesSlide5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8F3F0-5873-47E5-9099-7891B0EFE4B0}" type="slidenum">
              <a:rPr b="0" lang="en-SG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BA3D-0124-48E2-9BEB-05F2E743570A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21CEF-9452-465C-BB05-D13852EA617E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er several definitions – students to justify their choice in selecting a piece of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20037-2840-4309-9681-FF6A11D9EC36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9DE13-0761-49BA-9ED0-51B5F7CBCFF4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SG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052A9-4255-46BD-A07B-E44953209FA3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ter kids input, teachers to choose best 1 from each cla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FL to compi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ner to be announc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etnamese art – cultural / ident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terature – Writing should be accessible (conte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2E4A-5A16-4824-96A6-0EBB4C0D739A}" type="slidenum">
              <a:rPr b="0" lang="en-SG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17C2-8C43-4833-A0B5-DFCFE2DD5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4EA-4F24-440E-AAC3-33336121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EA906-E7F9-4331-B6F1-05914B73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C8A1-F25D-497D-80F8-91915D10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81810-7AE7-4587-A6D9-E7C4AD487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ED7AC-11E4-451C-8E4F-CED7D2524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6A525-1CB5-4064-9E4A-2253CD1AC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F027-72B3-41EE-AD42-22C33A61A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8DE2F-4FF2-4621-9F30-40A1A4D5F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972AD-2D08-45F4-A45D-3F62D81FC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317DBF-510B-4FDC-82B7-16A2BAE79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43A7-A41C-47F6-AE12-CF220B034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14B3-AA86-4CDF-878D-D9BEB96DB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99D7B-FB69-4D53-90D5-85E0D867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0E1E7-A1EA-44FA-939F-B98AD7047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E224B-39EB-45BE-83DD-55515888D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D6878-F2BC-42E1-B140-C8B9D37CF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7E41F9-0280-485A-9F0F-924A206774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1606D-7C76-4940-94A6-C3077D3F8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21C33-4758-42D7-B29F-F88415A1D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08CE54-1B83-4AF9-AE05-22E07CE3A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C83E74-1D9A-4134-84A1-498E83C16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8DFF-2DF8-46A3-A9C6-EC50FBF96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02F4DD-FA24-4DFE-AC0C-FCB16881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7422C-8D90-4C68-B3A2-4A5D4CE71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5485A-0A46-405B-8F63-ACEFB4CF6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A931A0-22DF-4D25-8AA0-5AB8BE0BE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B9475D-39C1-47FC-8E5F-A5CB40683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18034C-2420-4134-9645-DECE7D63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87AF6F-1EC7-447C-9DBB-FC95039F1D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725325-3C46-4592-8E9B-9F2CC8714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52FB9-77AA-4ED2-B181-04538926B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8DF9DF-3DC4-44DD-8647-002C0ADA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9AAA-A3B6-41E0-8121-238B3C4FD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1EBBA4-62EF-432E-BE06-266A51E4D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DE8E17-016E-4F49-900F-AAF002557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FD131-5F9A-4952-B53C-08CD5992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1ABFC3-BF95-4885-8341-DDD6F06C8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13A0F6-0362-44B4-BB54-D406EBC2A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6ABB7-9B66-4FB9-BAFD-C6A4BEAB6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604F18-2B73-41C4-A894-4D35BF1C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7E0CB3-ED3A-4757-BE8B-E810B80A1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09E216-FECD-4573-9702-9C7B0C2FE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B1C7C6-871F-4866-ABC2-5EE1CA08A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EDD5-A9D0-4FA9-A222-51EEC51E2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8864B-A460-46CC-BFCA-400882311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938CAA-8990-4963-99C3-97A399274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93F0E-2D2C-4F0F-AB26-44D62E1A2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6AADB3-AE04-4783-B896-EDA2D6A32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17D35C-746C-43FF-B1D3-978B060A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E3521-FE6B-4A7A-9D12-31FE54F2B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F976C-66AA-423A-A94B-FBB4CF551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FF5589-BC77-4058-AAAD-FB3F7AAA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FAAC68-FDB1-4835-9C6E-19ED6D266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604287-5AD3-489C-9F7A-8F8F6C242D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F06D-2A55-40F6-92EC-63E37DC2D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F9128B-98AB-42C7-BFAF-86216D0382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FB1AFA-E49B-4739-92FC-7A367822DA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0877DA-8E7D-4B04-8740-64C438637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4F7E74-2125-4EDF-B220-67A55E13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F2A0D8-5240-40FD-9DA2-56B71B816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C47B25-325B-4859-A078-BF0BC3817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558BD6-A9B9-4560-A790-A5A5A1CA6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70862D-6B4A-418E-ADCC-744F87A50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297EB9-6D74-4EB6-B7C4-79D899688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259817-AF4A-4E1E-A351-EDDF85630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2E686-1879-410F-A044-8D94EA98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470414-AFE0-4542-ABB9-BDBCB49A6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9F2EDC-7EB4-4FCF-9882-52F054F75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7C220A-5B68-452F-87B4-F282E213F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1A01117-28E7-40D8-84BF-13B58947A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629BA-C45A-40D9-A490-1CEE513CC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D8246-2E60-44C6-97D8-AC4D8DA06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C01E1B-95EA-497D-BA1B-5765BE2C6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A4CEBA-0FC7-49F3-B817-EF0C6882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2C6950-FF42-4CDD-B3B6-303D2C1B1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D1D31-997E-4DF8-82FE-BB769B184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3494-1AC7-45A4-A81F-D9F4C859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956FCE-DB13-43DC-ACF3-7BF93DB4A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70343E-BA23-422B-92F4-52B2FA3B9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7AA8F8-08DB-41BF-9604-0EF6016F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16E8AE-9B7E-48EC-81CC-4F2FA4989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51BADC-4DFA-489B-B9A6-B01732C7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2D7A72-C8A4-4CBA-85CF-3DEA0EC252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1371600" y="27396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indent="0" algn="ctr">
              <a:lnSpc>
                <a:spcPct val="150000"/>
              </a:lnSpc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3E2856-62E0-4710-B3D0-B61559779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B48F2B-B60A-47F2-AE7F-100B4D7EC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F84620-5E81-4D18-B3E1-29CE51751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DA8B13-C979-474A-89DF-C891D39DE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11AD-F15C-4329-AFB6-7F411C22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1371600" y="-612720"/>
            <a:ext cx="6400800" cy="699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3765320" algn="ctr">
              <a:lnSpc>
                <a:spcPct val="150000"/>
              </a:lnSpc>
              <a:spcBef>
                <a:spcPts val="451"/>
              </a:spcBef>
              <a:tabLst>
                <a:tab algn="l" pos="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3E695-6A96-4938-BBCC-4E2BEFE0D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6E4124-6B8E-4871-A1D4-6D18D2B79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26BB1-35CC-4A47-BDB5-A2A84FA63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E21BD0-36C3-4C11-837C-3DCFE2B8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1371600" y="3848400"/>
            <a:ext cx="640080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B7231-8833-43A8-9D89-F5F47918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51560" y="205704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137160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51560" y="3848400"/>
            <a:ext cx="312336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A2E619-4CCA-4F17-896E-B141D2B6EB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37160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53556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699880" y="205704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137160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53556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5699880" y="3848400"/>
            <a:ext cx="2060640" cy="163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5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5C831-F9CA-43C8-B66E-58817578D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F5AA9-853E-46FF-B255-E95E98B87DD8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flourish2.png"/>
          <p:cNvPicPr/>
          <p:nvPr/>
        </p:nvPicPr>
        <p:blipFill>
          <a:blip r:embed="rId3"/>
          <a:stretch/>
        </p:blipFill>
        <p:spPr>
          <a:xfrm>
            <a:off x="0" y="2803680"/>
            <a:ext cx="9144000" cy="9331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9AE995-6818-4618-BF7E-EEE0D984E36F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DCA36-C510-4677-BA83-3C0D764FF18C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flourish2.png"/>
          <p:cNvPicPr/>
          <p:nvPr/>
        </p:nvPicPr>
        <p:blipFill>
          <a:blip r:embed="rId3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flourish2.png"/>
          <p:cNvPicPr/>
          <p:nvPr/>
        </p:nvPicPr>
        <p:blipFill>
          <a:blip r:embed="rId4"/>
          <a:stretch/>
        </p:blipFill>
        <p:spPr>
          <a:xfrm>
            <a:off x="0" y="2682720"/>
            <a:ext cx="9144000" cy="932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dt" idx="10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sldNum" idx="12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4687-9274-4691-BF2B-4B0F4A910CAB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4BED-2A01-4156-B6CF-AFCE10BEAFC8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8" descr="flourish2.png"/>
          <p:cNvPicPr/>
          <p:nvPr/>
        </p:nvPicPr>
        <p:blipFill>
          <a:blip r:embed="rId3">
            <a:lum bright="-14000"/>
          </a:blip>
          <a:stretch/>
        </p:blipFill>
        <p:spPr>
          <a:xfrm>
            <a:off x="0" y="1619280"/>
            <a:ext cx="9144000" cy="931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B242B-E586-4536-97FA-0E6B714C73C8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7" descr="flourish2.png"/>
          <p:cNvPicPr/>
          <p:nvPr/>
        </p:nvPicPr>
        <p:blipFill>
          <a:blip r:embed="rId3"/>
          <a:stretch/>
        </p:blipFill>
        <p:spPr>
          <a:xfrm>
            <a:off x="0" y="1620720"/>
            <a:ext cx="9144000" cy="93348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16DE-3D0A-4424-AE19-EA06397BA62C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Picture 7" descr="window3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2" name="Plaque 7"/>
          <p:cNvSpPr/>
          <p:nvPr/>
        </p:nvSpPr>
        <p:spPr>
          <a:xfrm>
            <a:off x="1463760" y="1847880"/>
            <a:ext cx="3089160" cy="3089160"/>
          </a:xfrm>
          <a:custGeom>
            <a:avLst/>
            <a:gdLst>
              <a:gd name="textAreaLeft" fmla="*/ 184320 w 3089160"/>
              <a:gd name="textAreaRight" fmla="*/ 2904840 w 3089160"/>
              <a:gd name="textAreaTop" fmla="*/ 184320 h 3089160"/>
              <a:gd name="textAreaBottom" fmla="*/ 2904840 h 3089160"/>
            </a:gdLst>
            <a:ahLst/>
            <a:rect l="textAreaLeft" t="textAreaTop" r="textAreaRight" b="textAreaBottom"/>
            <a:pathLst>
              <a:path w="21600" h="21600">
                <a:moveTo>
                  <a:pt x="1823" y="0"/>
                </a:moveTo>
                <a:arcTo wR="1823" hR="1823" stAng="0" swAng="5400000"/>
                <a:lnTo>
                  <a:pt x="0" y="19777"/>
                </a:lnTo>
                <a:arcTo wR="1823" hR="1823" stAng="16200000" swAng="5400000"/>
                <a:lnTo>
                  <a:pt x="19777" y="21600"/>
                </a:lnTo>
                <a:arcTo wR="1823" hR="1823" stAng="10800000" swAng="5400000"/>
                <a:lnTo>
                  <a:pt x="21600" y="1823"/>
                </a:lnTo>
                <a:arcTo wR="1823" hR="1823" stAng="5400000" swAng="5400000"/>
                <a:close/>
              </a:path>
            </a:pathLst>
          </a:custGeom>
          <a:noFill/>
          <a:ln w="9360">
            <a:solidFill>
              <a:srgbClr val="d0ccb9">
                <a:alpha val="17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1371600" y="2057040"/>
            <a:ext cx="6400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941140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7608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400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3" marL="145584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4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5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6" marL="1872000" indent="-2077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 type="dt" idx="22"/>
          </p:nvPr>
        </p:nvSpPr>
        <p:spPr>
          <a:xfrm>
            <a:off x="304920" y="635652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SG" sz="11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100" spc="-1" strike="noStrike">
                <a:solidFill>
                  <a:srgbClr val="c6bc9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 type="ftr" idx="23"/>
          </p:nvPr>
        </p:nvSpPr>
        <p:spPr>
          <a:xfrm>
            <a:off x="2971800" y="635652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 type="sldNum" idx="24"/>
          </p:nvPr>
        </p:nvSpPr>
        <p:spPr>
          <a:xfrm>
            <a:off x="6675120" y="63644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SG" sz="1200" spc="-1" strike="noStrike">
                <a:solidFill>
                  <a:srgbClr val="c6bc9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37B0A-7E34-4B9F-A0C2-34603318E861}" type="slidenum">
              <a:rPr b="1" lang="en-SG" sz="1200" spc="-1" strike="noStrike">
                <a:solidFill>
                  <a:srgbClr val="c6bc9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artrevived.com/blogs/art-revived-blog/1449212-vincent-van-gogh-s-7-most-famous-paintings" TargetMode="External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nytimes.com/2008/07/13/nyregion/nyregionspecial2/13artsct.html?_r=1" TargetMode="External"/><Relationship Id="rId2" Type="http://schemas.openxmlformats.org/officeDocument/2006/relationships/hyperlink" Target="http://www.telegraph.co.uk/culture/culturecritics/richarddorment/4568827/Van-Gogh-and-the-Colours-of-the-Night-review.html" TargetMode="External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371600" y="134136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THE ARTS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2012 E-Learning Module (General Paper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Garamond"/>
              </a:rPr>
              <a:t>Meridian Junior Colleg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3" name="TextBox 3"/>
          <p:cNvSpPr/>
          <p:nvPr/>
        </p:nvSpPr>
        <p:spPr>
          <a:xfrm>
            <a:off x="1619280" y="2492280"/>
            <a:ext cx="5905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ffffff"/>
                </a:solidFill>
                <a:latin typeface="Garamond"/>
              </a:rPr>
              <a:t>A Brief Introduction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AESTHETIC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59920" indent="-2599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is later works were heavily influenced by the Impressionist movement and his experimentation with the form pushed the boundaries of Impressionist ar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599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59920" indent="-2599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is works subsequently pioneered the Expressionist movemen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599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59920" indent="-2599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His works also had a large influence on the Symbolist movemen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5992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259920" indent="-25992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Other links: http://en.wikipedia.org/wiki/Vincent_van_Gog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623880" indent="-259920">
              <a:lnSpc>
                <a:spcPct val="10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5" name="TextBox 5"/>
          <p:cNvSpPr/>
          <p:nvPr/>
        </p:nvSpPr>
        <p:spPr>
          <a:xfrm>
            <a:off x="5329080" y="349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ple template for re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6"/>
          <p:cNvSpPr/>
          <p:nvPr/>
        </p:nvSpPr>
        <p:spPr>
          <a:xfrm>
            <a:off x="2286000" y="6488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Guernica, by Pablo Picasso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77" name="Content Placeholder 2" descr=""/>
          <p:cNvPicPr/>
          <p:nvPr/>
        </p:nvPicPr>
        <p:blipFill>
          <a:blip r:embed="rId1"/>
          <a:stretch/>
        </p:blipFill>
        <p:spPr>
          <a:xfrm>
            <a:off x="17640" y="34920"/>
            <a:ext cx="9126360" cy="6453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 Pain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Guernic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1371600" y="2437920"/>
            <a:ext cx="640080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102387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marL="339480" indent="102387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260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1371600" y="2437920"/>
            <a:ext cx="64008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985770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985770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ompos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985770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9857700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HISTORICAL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 what way does this painting reflect the political conditions (in relation to war)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Links to interesting article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Content Placeholder 3" descr=""/>
          <p:cNvPicPr/>
          <p:nvPr/>
        </p:nvPicPr>
        <p:blipFill>
          <a:blip r:embed="rId1"/>
          <a:stretch/>
        </p:blipFill>
        <p:spPr>
          <a:xfrm>
            <a:off x="1403280" y="0"/>
            <a:ext cx="504036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TextBox 6"/>
          <p:cNvSpPr/>
          <p:nvPr/>
        </p:nvSpPr>
        <p:spPr>
          <a:xfrm>
            <a:off x="2286000" y="6488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the Love of God, Damien Hirs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 Sculpt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For The Love of God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275760" indent="-1882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1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ompos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MODULE OBJECTIVES</a:t>
            </a: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1371600" y="2438280"/>
            <a:ext cx="6400800" cy="315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92350800">
              <a:lnSpc>
                <a:spcPct val="15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At the end of this module, you will: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355680" indent="-24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Explore some of the more important works of art in the world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355680" indent="-2426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Learn more about their significance in terms of their background, as well as the inherent value of represented by each art piece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med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MONETARY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much does this artwork cost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y does this artwork cost so much? Why would anyone pay such amounts for this artwork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TextBox 1"/>
          <p:cNvSpPr/>
          <p:nvPr/>
        </p:nvSpPr>
        <p:spPr>
          <a:xfrm>
            <a:off x="3778200" y="836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rphones required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7" name="Rectangle 2"/>
          <p:cNvSpPr/>
          <p:nvPr/>
        </p:nvSpPr>
        <p:spPr>
          <a:xfrm>
            <a:off x="614520" y="5589720"/>
            <a:ext cx="6478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those who are interested, the entire album is available here on YouTube. More details are found on the uploader comment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youtube.com/watch?v=b1K2GRsjhUQ&amp;amp;rel=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8" name="TextBox 4"/>
          <p:cNvSpPr/>
          <p:nvPr/>
        </p:nvSpPr>
        <p:spPr>
          <a:xfrm>
            <a:off x="611280" y="3222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If the video doesn’t play, click here to launch video in external brows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399" name="OvQ3RPuR8jY?version=3&amp;hl=en_US&amp;rel=0" descr=""/>
          <p:cNvPicPr/>
          <p:nvPr/>
        </p:nvPicPr>
        <p:blipFill>
          <a:blip r:embed="rId1"/>
          <a:stretch/>
        </p:blipFill>
        <p:spPr>
          <a:xfrm>
            <a:off x="682560" y="846000"/>
            <a:ext cx="2959200" cy="2217960"/>
          </a:xfrm>
          <a:prstGeom prst="rect">
            <a:avLst/>
          </a:prstGeom>
          <a:ln w="25560">
            <a:solidFill>
              <a:srgbClr val="9e8e5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3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 Music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Dadra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musician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musician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musician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868744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88000" indent="868744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ULTURAL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does this artwork represent the country it comes from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were some of its influence ON contemporary artists/work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Rectangle 13"/>
          <p:cNvSpPr/>
          <p:nvPr/>
        </p:nvSpPr>
        <p:spPr>
          <a:xfrm>
            <a:off x="4500720" y="5157720"/>
            <a:ext cx="449892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Click here for FULL transcript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(Romeo and Juliet, Act 2 Scene 2: The Balcony Scene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There are a number of productions and adaptations done in theatre and cinema. Click here for an example of one such adaptation (launches new browser window – from 4:30 to 7:30)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9" name="Rectangle 12"/>
          <p:cNvSpPr/>
          <p:nvPr/>
        </p:nvSpPr>
        <p:spPr>
          <a:xfrm>
            <a:off x="112680" y="42840"/>
            <a:ext cx="4314960" cy="669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Times New Roman"/>
              </a:rPr>
              <a:t>SCENE II. Capulet's orchard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0ccb9"/>
                </a:solidFill>
                <a:latin typeface="Garamond"/>
              </a:rPr>
              <a:t>Enter ROMEO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Times New Roman"/>
              </a:rPr>
              <a:t>ROMEO </a:t>
            </a: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He jests at scars that never felt a wound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0ccb9"/>
                </a:solidFill>
                <a:latin typeface="Garamond"/>
              </a:rPr>
              <a:t>JULIET appears above at a window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But, soft! what light through yonder window breaks?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It is the east, and Juliet is the sun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rise, fair sun, and kill the envious moon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Who is already sick and pale with grief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hat thou her maid art far more fair than she: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Be not her maid, since she is envious;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Her vestal livery is but sick and green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nd none but fools do wear it; cast it off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It is my lady, O, it is my love!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, that she knew she were!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She speaks yet she says nothing: what of that?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Her eye discourses; I will answer it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I am too bold, 'tis not to me she speaks: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wo of the fairest stars in all the heaven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Having some business, do entreat her eyes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o twinkle in their spheres till they return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What if her eyes were there, they in her head?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he brightness of her cheek would shame those stars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s daylight doth a lamp; her eyes in heaven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Would through the airy region stream so bright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hat birds would sing and think it were not night.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See, how she leans her cheek upon her hand!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, that I were a glove upon that hand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That I might touch that cheek!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0" name="Rectangle 5"/>
          <p:cNvSpPr/>
          <p:nvPr/>
        </p:nvSpPr>
        <p:spPr>
          <a:xfrm>
            <a:off x="4427640" y="804960"/>
            <a:ext cx="4572000" cy="41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Garamond"/>
              </a:rPr>
              <a:t>JULIET </a:t>
            </a: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y me!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Garamond"/>
              </a:rPr>
              <a:t>ROMEO </a:t>
            </a: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She speaks: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, speak again, bright angel! for thou art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s glorious to this night, being o'er my head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s is a winged messenger of heaven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Unto the white-upturned wondering eyes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f mortals that fall back to gaze on him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When he bestrides the lazy-pacing clouds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nd sails upon the bosom of the air.</a:t>
            </a:r>
            <a:br>
              <a:rPr sz="1400"/>
            </a:b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89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d0ccb9"/>
                </a:solidFill>
                <a:latin typeface="Garamond"/>
              </a:rPr>
              <a:t>JULIET </a:t>
            </a: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 Romeo, Romeo! wherefore art thou Romeo?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Deny thy father and refuse thy name;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Or, if thou wilt not, be but sworn my love,</a:t>
            </a:r>
            <a:br>
              <a:rPr sz="1400"/>
            </a:br>
            <a:r>
              <a:rPr b="0" lang="en-US" sz="1400" spc="-1" strike="noStrike">
                <a:solidFill>
                  <a:srgbClr val="d0ccb9"/>
                </a:solidFill>
                <a:latin typeface="Garamond"/>
              </a:rPr>
              <a:t>And I'll no longer be a Capulet. 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work: Literatur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ork: Romeo and Julie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riter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write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write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868744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reading/watching 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288000" indent="868744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960120" indent="-1918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71628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EFORE WE BEGIN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1371600" y="2437920"/>
            <a:ext cx="6400800" cy="387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following slides will give you a broad overview of the various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Garamond"/>
              </a:rPr>
              <a:t>forms</a:t>
            </a: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 of ar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You will need to research, and fill in the blanks on the following pages (The Starry Night by Vincent van Gogh has been done for you as a reference)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Remember to cite your sources where appropriate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e honest with your opinions! Art is subjective; but do be respectful of your friends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push dir="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LITERARY VALU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influences on contemporary artists/work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isting Controversies / Current Debates (If Any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800280" indent="-273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TextBox 1"/>
          <p:cNvSpPr/>
          <p:nvPr/>
        </p:nvSpPr>
        <p:spPr>
          <a:xfrm>
            <a:off x="3778200" y="836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rphones required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0" name="TextBox 4"/>
          <p:cNvSpPr/>
          <p:nvPr/>
        </p:nvSpPr>
        <p:spPr>
          <a:xfrm>
            <a:off x="611280" y="3222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If the video doesn’t play, click here to launch video in external brows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421" name="IbTGq8QQkjs?version=3&amp;hl=en_US&amp;rel=0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2879640" cy="2160720"/>
          </a:xfrm>
          <a:prstGeom prst="rect">
            <a:avLst/>
          </a:prstGeom>
          <a:ln w="25560">
            <a:solidFill>
              <a:srgbClr val="9e8e5c"/>
            </a:solidFill>
            <a:miter/>
          </a:ln>
        </p:spPr>
      </p:pic>
      <p:sp>
        <p:nvSpPr>
          <p:cNvPr id="422" name="Rectangle 1"/>
          <p:cNvSpPr/>
          <p:nvPr/>
        </p:nvSpPr>
        <p:spPr>
          <a:xfrm>
            <a:off x="620640" y="5673600"/>
            <a:ext cx="603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those who are interested, there are other similar dances you can check ou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youtube.com/watch?v=_vgGPFhHV6Y&amp;amp;rel=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42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work: Dance – Performance art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ork: Tari Cendrawasih (The Bird of Paradise Danc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ountry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contributions to the art community by the country (name of artwork + genre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615960" indent="-210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615960" indent="-210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615960" indent="-21024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98991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6" name=""/>
          <p:cNvSpPr txBox="1"/>
          <p:nvPr/>
        </p:nvSpPr>
        <p:spPr>
          <a:xfrm>
            <a:off x="1371600" y="2437920"/>
            <a:ext cx="6400800" cy="401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972165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reading/watching 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972165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GNIFICANCE ON HERITAGE AND TRADITIONS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does this artwork represent the country it comes from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were some of its influence ON contemporary artists/works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6UFlWO5zhO8?version=3&amp;hl=en_US&amp;rel=0" descr=""/>
          <p:cNvPicPr/>
          <p:nvPr/>
        </p:nvPicPr>
        <p:blipFill>
          <a:blip r:embed="rId1"/>
          <a:stretch/>
        </p:blipFill>
        <p:spPr>
          <a:xfrm>
            <a:off x="731880" y="836640"/>
            <a:ext cx="3048120" cy="2286000"/>
          </a:xfrm>
          <a:prstGeom prst="rect">
            <a:avLst/>
          </a:prstGeom>
          <a:ln w="25560">
            <a:solidFill>
              <a:srgbClr val="9e8e5c"/>
            </a:solidFill>
            <a:miter/>
          </a:ln>
        </p:spPr>
      </p:pic>
      <p:sp>
        <p:nvSpPr>
          <p:cNvPr id="432" name="TextBox 1"/>
          <p:cNvSpPr/>
          <p:nvPr/>
        </p:nvSpPr>
        <p:spPr>
          <a:xfrm>
            <a:off x="3778200" y="836640"/>
            <a:ext cx="388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arphones required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3" name="Rectangle 2"/>
          <p:cNvSpPr/>
          <p:nvPr/>
        </p:nvSpPr>
        <p:spPr>
          <a:xfrm>
            <a:off x="685800" y="4770360"/>
            <a:ext cx="78469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For those who are interested in Japanese film direction, you can check out the following list of films and directors here. Some famous directors and their work include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kira Kurosawa – Seven Samurai (1954, film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Mamoru Oshii – Ghost in a Shell (1996, anim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Katsuhiro Otomo – Memories (2004, anim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4" name="TextBox 4"/>
          <p:cNvSpPr/>
          <p:nvPr/>
        </p:nvSpPr>
        <p:spPr>
          <a:xfrm>
            <a:off x="611280" y="3222720"/>
            <a:ext cx="73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If the video doesn’t play, click here to launch video in external browser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4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6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work: Fil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ork: Departures (2008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writer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write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writer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972165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reading/watching 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22200" indent="972165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074240" indent="-2145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LIMAT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ompos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GLOSSARY OF TERM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1371600" y="2205000"/>
            <a:ext cx="6400800" cy="394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4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Some definitions you might find helpful: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Art (capital “A”)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Materials shaped or selected to convey an idea of emotion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It is possible for it to serve multiple purposes of being practical and aesthetic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Usage: Many forms of Art have now integrated the use of technology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art (small “a”)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An aesthetic object meant to be looked at and appreciate for its intrinsic value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Usage: This painting is really a work of art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The Arts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Collective term encompassing many forms of art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lvl="1" marL="713160" indent="-219240">
              <a:lnSpc>
                <a:spcPct val="90000"/>
              </a:lnSpc>
              <a:spcBef>
                <a:spcPts val="37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or example, visual arts, performance arts, fine art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CULTURAL VALU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Influence on contemporary artists / works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Existing Controversies / Current Debates (If Any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EXTENSION ACTIVITY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611280" y="206028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Having researched on the famous Art pieces of other countries, we now shift our focus to Singapore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Choose 2 forms of Singaporean art to feature in your own gallery! Do ensure that your 2 choices are of different artforms (For example, paintings/drawings, music, performances or even film!)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If possible, take some pictures of installations or exhibits on display at various locations around Singapore (ie. Esplanade, Singapore Art Museum, etc.)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or those hunting old Singapore films, you can try Sinema@Mt. Sophia, BUT they will be closed for good from June 2012 (details on website)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  <a:p>
            <a:pPr indent="86124960">
              <a:lnSpc>
                <a:spcPct val="140000"/>
              </a:lnSpc>
              <a:spcBef>
                <a:spcPts val="374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Garamond"/>
              </a:rPr>
              <a:t>For those who want to feature dances and performances, please note that NO PHOTOGRAPHY is allowed when the performances begin. You should feature programme notes, and give a short write-up what the performance is about.</a:t>
            </a:r>
            <a:endParaRPr b="0" lang="en-US" sz="15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SERT ART PIECE 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vide a link to a video or audio recording if you are dealing with other forms of ar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371600" y="2133360"/>
            <a:ext cx="6400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1371600" y="2438280"/>
            <a:ext cx="640080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reat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TYPE OF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4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AESTHETIC? HISTORICAL? CULTURAL? TRADITION/HERITAGE? MONETARY? OTHERS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INSERT ART PIECE HERE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10376532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Provide a link to a video or audio recording if you are dealing with other forms of art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551880" indent="-18828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7159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1371600" y="2133360"/>
            <a:ext cx="6400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marL="343080" indent="1034222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371600" y="20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GALLERY WALK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2" name=""/>
          <p:cNvSpPr txBox="1"/>
          <p:nvPr/>
        </p:nvSpPr>
        <p:spPr>
          <a:xfrm>
            <a:off x="1371600" y="2438280"/>
            <a:ext cx="640080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reat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10065204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776160" indent="-26496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TYPE OF SIGNIFICANCE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1371600" y="2437920"/>
            <a:ext cx="64008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  <a:ea typeface="Arial"/>
              </a:rPr>
              <a:t>AESTHETIC? HISTORICAL? CULTURAL? TRADITION/HERITAGE? MONETARY? OTHERS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285840" indent="-285840">
              <a:lnSpc>
                <a:spcPct val="150000"/>
              </a:lnSpc>
              <a:spcBef>
                <a:spcPts val="4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1300320"/>
                <a:tab algn="l" pos="2600280"/>
                <a:tab algn="l" pos="3900600"/>
                <a:tab algn="l" pos="5200560"/>
                <a:tab algn="l" pos="6500880"/>
                <a:tab algn="l" pos="7800840"/>
                <a:tab algn="l" pos="9101160"/>
                <a:tab algn="l" pos="1040148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PARTING THOUGHT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is art influenced by the context it was created? How is art shapes and is shaped by the environment? Response to environment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What then is the role of an artist in society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ow is art an important part of a nation’s / culture’s  identity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Does Singapore’s art feature strongly in our national identity?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eyond identity, what other role does Art play in society? (Commercial, Political…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FURTHER READING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8" name=""/>
          <p:cNvSpPr txBox="1"/>
          <p:nvPr/>
        </p:nvSpPr>
        <p:spPr>
          <a:xfrm>
            <a:off x="1371600" y="2437920"/>
            <a:ext cx="64008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>
              <a:lnSpc>
                <a:spcPct val="15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Garamond"/>
              </a:rPr>
              <a:t>Check out these online virtual museums!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virtualfreesites.com/museums.museums.html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louvre.fr/en/visites-en-lign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Create your own virtual museum with your Facebook! </a:t>
            </a:r>
            <a:r>
              <a:rPr b="0" lang="en-US" sz="1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800" spc="-1" strike="noStrike">
                <a:solidFill>
                  <a:srgbClr val="ffffff"/>
                </a:solidFill>
                <a:latin typeface="Garamond"/>
              </a:rPr>
              <a:t>http://www.intel.com/museumofme/r/index.htm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Content Placeholder 3" descr=""/>
          <p:cNvPicPr/>
          <p:nvPr/>
        </p:nvPicPr>
        <p:blipFill>
          <a:blip r:embed="rId1"/>
          <a:stretch/>
        </p:blipFill>
        <p:spPr>
          <a:xfrm>
            <a:off x="0" y="0"/>
            <a:ext cx="9126360" cy="6515280"/>
          </a:xfrm>
          <a:prstGeom prst="rect">
            <a:avLst/>
          </a:prstGeom>
          <a:ln w="0">
            <a:noFill/>
          </a:ln>
        </p:spPr>
      </p:pic>
      <p:sp>
        <p:nvSpPr>
          <p:cNvPr id="363" name="TextBox 6"/>
          <p:cNvSpPr/>
          <p:nvPr/>
        </p:nvSpPr>
        <p:spPr>
          <a:xfrm>
            <a:off x="2268360" y="65152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he Starry Night, by Vincent van Gog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BRIEF NOTES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1371600" y="2438280"/>
            <a:ext cx="6400800" cy="343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2000"/>
          </a:bodyPr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ype of art work: Painting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 work: The Starry Night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Name of artist: Vincent van Gogh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Birthplace, Birth – Death of artist: Netherlands, 1853 – 189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Other noteworthy achievements by artist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496080" indent="-169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Sunflowers, Wheatfield with Crows, Portrait of Dr. Gachet, The Night Café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496080" indent="-169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Van Gogh’s </a:t>
            </a:r>
            <a:r>
              <a:rPr b="0" lang="en-US" sz="1400" spc="-1" strike="noStrike" u="sng">
                <a:solidFill>
                  <a:srgbClr val="b6a272"/>
                </a:solidFill>
                <a:uFillTx/>
                <a:latin typeface="Garamond"/>
                <a:hlinkClick r:id="rId1"/>
              </a:rPr>
              <a:t>7 most famous paintings</a:t>
            </a: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 (with description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496080" indent="-16920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1" marL="247680" indent="-168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Garamond"/>
            </a:endParaRPr>
          </a:p>
          <a:p>
            <a:pPr indent="6433416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6" name="TextBox 2"/>
          <p:cNvSpPr/>
          <p:nvPr/>
        </p:nvSpPr>
        <p:spPr>
          <a:xfrm>
            <a:off x="5329080" y="349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ple template for re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WHAT IS SO SPECIAL ABOUT THIS ART PIECE?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1371600" y="2133360"/>
            <a:ext cx="6400800" cy="417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93079800"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What is your initial reaction on seeing this art work? Share with the class some of your honest opinions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No hard outlines, everything seems like a melange of colours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Pretty </a:t>
            </a:r>
            <a:r>
              <a:rPr b="0" lang="en-US" sz="13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 WHY? The swirling colours. Never seen the moon or the stars being painted in this way before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marL="308520" indent="93079800">
              <a:lnSpc>
                <a:spcPct val="140000"/>
              </a:lnSpc>
              <a:spcBef>
                <a:spcPts val="425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Garamond"/>
              </a:rPr>
              <a:t>What are some of the reviews or comments made about this art work? If possible, identify at least 2 groups of people who have reviewed, or made interesting comments about this art work.</a:t>
            </a:r>
            <a:endParaRPr b="0" lang="en-US" sz="17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Van Gogh’s madness and how the painting represents the moment of clarity in his life. </a:t>
            </a:r>
            <a:r>
              <a:rPr b="0" lang="en-SG" sz="1300" spc="-1" strike="noStrike" u="sng">
                <a:solidFill>
                  <a:srgbClr val="b6a272"/>
                </a:solidFill>
                <a:uFillTx/>
                <a:latin typeface="Garamond"/>
                <a:hlinkClick r:id="rId1"/>
              </a:rPr>
              <a:t>http://www.nytimes.com/2008/07/13/nyregion/nyregionspecial2/13artsct.html?_r=1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Garamond"/>
              </a:rPr>
              <a:t>Strange and hypnotic, even if one were to see if from Van Gogh’s context in life and in art, one would not be able to easily understand it still.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  <a:p>
            <a:pPr lvl="2" marL="1028520" indent="-205560">
              <a:lnSpc>
                <a:spcPct val="90000"/>
              </a:lnSpc>
              <a:spcBef>
                <a:spcPts val="326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SG" sz="1300" spc="-1" strike="noStrike" u="sng">
                <a:solidFill>
                  <a:srgbClr val="b6a272"/>
                </a:solidFill>
                <a:uFillTx/>
                <a:latin typeface="Garamond"/>
                <a:hlinkClick r:id="rId2"/>
              </a:rPr>
              <a:t>http://www.telegraph.co.uk/culture/culturecritics/richarddorment/4568827/Van-Gogh-and-the-Colours-of-the-Night-review.html</a:t>
            </a:r>
            <a:endParaRPr b="0" lang="en-US" sz="13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69" name="TextBox 4"/>
          <p:cNvSpPr/>
          <p:nvPr/>
        </p:nvSpPr>
        <p:spPr>
          <a:xfrm>
            <a:off x="5329080" y="349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ple template for re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1371600" y="1294920"/>
            <a:ext cx="64008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Garamond"/>
              </a:rPr>
              <a:t>HISTORICAL CONTEXT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1371600" y="2438280"/>
            <a:ext cx="6400800" cy="36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indent="8923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Time Period (Year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Post Impressionism (1885 – 1910)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8923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Historical events coinciding with the time period it was created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Impressionist movement in the Arts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8923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Artist’s own personal experience (Challenges / Inspirations):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lvl="2" marL="687960" indent="-2347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Garamond"/>
              </a:rPr>
              <a:t>Suffers from mental illnesses like anxiety. He was plagued by physical ailments and diseases.</a:t>
            </a: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 indent="89237880">
              <a:lnSpc>
                <a:spcPct val="15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2" name="TextBox 4"/>
          <p:cNvSpPr/>
          <p:nvPr/>
        </p:nvSpPr>
        <p:spPr>
          <a:xfrm>
            <a:off x="5329080" y="34920"/>
            <a:ext cx="37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Sample template for reference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7T00:56:46Z</dcterms:created>
  <dc:creator>Kum Jing Shen Joey</dc:creator>
  <dc:description/>
  <dc:language>en-US</dc:language>
  <cp:lastModifiedBy>Ivan Choong</cp:lastModifiedBy>
  <dcterms:modified xsi:type="dcterms:W3CDTF">2012-04-23T05:38:18Z</dcterms:modified>
  <cp:revision>70</cp:revision>
  <dc:subject/>
  <dc:title>The arts</dc:title>
</cp:coreProperties>
</file>